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741-39CD-4E7E-B86A-1FC0AC5FE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CDE8-F838-43CE-BE74-79FB0662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496B-24A7-4C32-82EA-E71231FA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AA73-0A3D-4CA3-A14D-DC0B1B58B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C769-754D-421A-B2EF-FB111D33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E1FA-D716-4974-A18C-9DE18B28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2199-F2BB-46FA-847D-2A23AE3D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FB0D-F528-4029-B2A1-D8D48C57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C780-14D9-43E4-95BE-CB615A47C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672F-6200-4091-9AC2-2B08941B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3B4F4-F76A-4FB0-9BAF-4842D7DC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A151-0669-4A11-BC6E-987E349B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FAC2-B5ED-4EAF-BB34-C1918C22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F6DAE-FB64-4E9E-96E3-8D8AD03C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E9D6-E43A-4F4C-B6D7-075FEF69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1228-7283-44FD-A922-86AFB9D7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8536-DD8F-47D5-9B4F-1B8F16595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FED9-13F6-48DC-8D0D-0BB29409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3C1B-B79E-4CA6-8819-4F23A2A4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7CE6-FD9F-48B7-913E-1263713A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33E-E76D-4A14-A0DA-94EC3101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A297-388A-4528-834A-94FF3FE2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08E7-C7C5-4A9E-A8A1-948C341B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B4D-4247-4CCA-882A-4464E68B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DB120-FC9B-40E4-B104-BA51BF54DA93}" type="slidenum"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9AEB-4D22-4CF6-B6CE-3E6B703954FA}" type="slidenum"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99"/>
                </a:solidFill>
                <a:latin typeface="Arial"/>
              </a:rPr>
              <a:t>SQL</a:t>
            </a:r>
            <a:br>
              <a:rPr sz="4400"/>
            </a:br>
            <a:r>
              <a:rPr b="0" lang="fr-FR" sz="4400" spc="-1" strike="noStrike">
                <a:solidFill>
                  <a:srgbClr val="ffff99"/>
                </a:solidFill>
                <a:latin typeface="Arial"/>
              </a:rPr>
              <a:t>Partie 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99"/>
                </a:solidFill>
                <a:latin typeface="Arial"/>
              </a:rPr>
              <a:t>SQL est un Langage de Manipulation de Donnée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SQL est un langage de manipulation de données (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LMD</a:t>
            </a:r>
            <a:r>
              <a:rPr b="0" lang="fr-FR" sz="2800" spc="-1" strike="noStrike">
                <a:solidFill>
                  <a:srgbClr val="ffffff"/>
                </a:solidFill>
                <a:latin typeface="Verdana"/>
              </a:rPr>
              <a:t>), cela signifie qu'il permet de sélectionner, insérer, modifier ou supprimer des données dans une table d'une base de données relationnel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Insert into nom_table … 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Update nom_table set … 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Delete from nom_table … 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99"/>
                </a:solidFill>
                <a:latin typeface="Arial"/>
              </a:rPr>
              <a:t>Insertion de donné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SERT INTO nom_table [(champ1, champ2,…) 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VALUES (valeur1, valeur2,…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SERT INTO employe (</a:t>
            </a: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NumEmploye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NomEmploye, … , NumServiceEmploye 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VALUES (1, « Dupond »,…, 3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99"/>
                </a:solidFill>
                <a:latin typeface="Arial"/>
              </a:rPr>
              <a:t>Insertion de donné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SERT INTO nom_table [(champ1, champ2,…) ]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LECT * FROM nom_table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SERT INTO clientRH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LECT * FROM cli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WHERE cpsal like « 69* 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99"/>
                </a:solidFill>
                <a:latin typeface="Arial"/>
              </a:rPr>
              <a:t>Modification de donné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UPDATE nom_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 champ1 = valeur ou express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[WHERE predicat de restriction]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UPDATE serv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 lieu = « Laval 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WHERE NumService = 10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99"/>
                </a:solidFill>
                <a:latin typeface="Arial"/>
              </a:rPr>
              <a:t>Suppression de donné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ELETE FROM nom_tab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[WHERE predicat de restriction]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ELETE FROM employ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WHERE NumServEmploye = 1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6:32:58Z</dcterms:created>
  <dc:creator>fred</dc:creator>
  <dc:description/>
  <dc:language>en-US</dc:language>
  <cp:lastModifiedBy>prof-FG</cp:lastModifiedBy>
  <dcterms:modified xsi:type="dcterms:W3CDTF">2011-11-18T14:18:43Z</dcterms:modified>
  <cp:revision>13</cp:revision>
  <dc:subject/>
  <dc:title>LES PROCESSUS</dc:title>
</cp:coreProperties>
</file>